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907-0253-4FD9-8BD5-D48AEEB5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ED7-2F7E-444A-9A4E-FB470EF6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03E-6981-468D-9F9C-80EAD4F6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B81-4BAF-4917-86EE-1D4731B0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869A-DC31-434A-AB70-CCCD0B43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815F-BCA1-41E3-9D93-D8B8F516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C0D6-74F2-419C-9A7C-25D2611C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5193-7960-4365-9C5E-D2ABE14D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75E8-18D3-4099-B3D7-F8F09D89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169D-E8B0-4E1D-BE90-DC0D6964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1F93-DE99-4742-B970-734C9F7D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EEA-FF2D-4C5E-A607-1DB26AFB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9642-65E1-4DD4-960D-CF37051B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931B-8D6A-4700-A9A6-1FE862D1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C9F3-21BF-4597-858F-8EA10F44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C122-5687-45D5-90F8-B0C4118A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C84E-4F89-4174-88EF-8AF5FF09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660-342F-441B-9AAE-68838B6B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2D6-794C-4AA9-BD3A-0325AEE2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40F-F662-44B5-8C0F-510DA5E4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040-1EC4-4B58-BD50-F1D6E4CD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B83-F847-4FAB-965F-5F79EE45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3A4-8A61-48CD-9CE7-C9C8492C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CD7-7D94-4919-B3BF-63BC960F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D7AB-A8B8-473F-84FC-340B91AD4A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63E3-6CC9-4578-B792-EDB6536E60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12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THE PARABLE OF THE SOILS (THE SOWER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MATTHEW 13:1-9, 18-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RK 2: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Luke 8:4-8, 11-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Whoever does not have, even what he has will b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aken from him.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4:2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Represents people who ha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own in their lives, but it did not l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From the various soi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ayside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irds took it a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ocky Ground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acked earth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moisture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orny Ground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Choked live out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ook it a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Power of Lif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is in the Seed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e understood, accepted, help on 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oils represent the hearts of men, and also their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ayside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vil one (Satan, Devil) came. He took i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way. Word concerns him when it ge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to man’s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tan’s work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asy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n hard he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an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rdens his own heart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atan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ak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way the se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the heart is harde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Prejudice – cf. 2 Thess. 2:10-11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Refused to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love the truth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Conviction of present, but wrong religiousl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– Romans 10:1-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Love of sin or pleasure – Hebrews 3:13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encourage one another, so you will not be hardened b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 sin’s deceitfulnes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Stubborn in wrong or sin -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tiff-necked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uncircumcised…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Acts 7:5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 Procrastination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oday, if you will hear his voice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harden not your heart.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Hebrews 4: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. Pride based on fear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…many believed…but wou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not confess their faith for fear…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John 12:42-43)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Rocky Places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– Quick life; quick dea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wo Problems –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Shallow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(Matt 13:5);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Dry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(Lk. 8:6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etter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to have known – 2 Pet. 2:21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Dangers come when one stops believing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Hymenaeus &amp; Alexander (2 Tim 1:19-20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 Some depart from faith (1 Tim 4:1-2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 Love of money leads some away (1 Tim.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1:6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d. Demas turned back from Paul &amp; the faith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(2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im. 4:10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must go on to maturity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erf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Hebrews 5: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Peter 2: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They endure for awhile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13: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Among the tho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o man can serve two masters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6:19-2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hew 12:30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ot with him, you a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gainst him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I John 2:15-1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ove not the world…”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orns that choke the see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ares of the world (Matt. 13:2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Making a living; seeking comf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Loving the world – 1 John 2: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) Demas loved this present world (2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im. 4: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Deceitfulness of riches (Matt 13:2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1 Tim. 6:10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ove of money is root of all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kinds of evil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Rich young ruler – Mark 10:17-2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ust of other things (Mark 4:19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 Could be power, prestige, position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privilege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 Could be possessions, status, comforts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foods, cloth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 Rich man – Luke 16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Pleasures of this life (Lk. 8:1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 Moses – knew treasures of Egypt could not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be compared to God’s reward (Heb 11:25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 Commanded to withdraw from peopl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who are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lovers of self…”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2 Timothy 3:2-5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e Good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Its Characterist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ood: deep, moist, warm, alread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ert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As to people: grateful for God’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blessings; fervent; already fruit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Distinguish good from evil (Heb 5:1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presents honest hearts: Genuine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incere, honorable and appro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Accepts the word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4:20). Mak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They accept it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Produce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k 4:2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ruitful: Produces fruit in personal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hew 13:2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e produces a crop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John 15:5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Abide in me, me in you, bear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much frui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Luke 8:15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y patience bring forth frui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ome 100, 60 and 30 fold – It i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easured by individual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Matt. 25:15; Eph. 4: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2 Corinthians 8:12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For if the willingnes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is there, the gift is acceptable according to wha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one has, not according to what he does no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hav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ruitfulness is a promise, and, it is an assign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nclusion – Luke 8: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must use what we have.  Go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xpects fr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f we do not use it, God will take i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Matthew 25:28-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Responsibility of Hearing God’s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“Take Heed How You Hear!”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Jesus first parable from the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boat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which served as His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pulpit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“Listen; Hear” – First and last words according to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rk’s accou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 Teacher has great responsibility, but so does the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hearer.  Emphasis here on hearer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public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at large is presented in this parabl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tthew 12, Jesus cast a demon from a ma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a. Pharisees say it was by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Beelzebub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, but Jesus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powerfully refutes their argume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b. Later they ask for a miracle (a sign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) Jesus calls them </a:t>
            </a:r>
            <a:r>
              <a:rPr b="0" i="1" lang="en-US" sz="2100" spc="-1" strike="noStrike">
                <a:solidFill>
                  <a:srgbClr val="ffffff"/>
                </a:solidFill>
                <a:latin typeface="BernhardMod BT"/>
              </a:rPr>
              <a:t>“an evil and adulterous generation.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) The only sign they would receive was that of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    Jonah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c. The same day (Matthew 13) He gives the first parable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dealing with attitude toward God’s Wor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The Sower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” – It Jesus in the context – Later it is apostles and anyone who teaches the wor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Corinthians 3:6 – Paul sees himself as a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sower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I planted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Corinthians 9:11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If we have sown spiritual seed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among you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The Seed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” – Luke 8:11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The seed is the word of God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rk 4:14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The farmer sows the word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tthew 13:19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…the evil one snatches away what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was sown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Peter 1:25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But the word of the Lord stands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forever. And this the word that was preached to you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e Waysid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A traveled road; path; generally hard; packed down by tra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14:6 – Same word Jesus uses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am the wa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18:26 – Priscilla &amp; Aquil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aught Apollo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the way of the Lor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mo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adequatel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22: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persuaded followers of thi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1:12 – It was even used referring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Sabbath’s Day’s journey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a Sabbath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Day’s walk from the cit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he Rocky Places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” – Stony ground; full of rocks (probably fruitless land even to farmer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V. 5 –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here it did not have much soil.”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Gk. Says, there was not muc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arth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V. 6 – Whatever did germinate, soo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ed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because they had no roo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Among Thorn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Bramble-bush; bri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crown of thorns on Jesus’ hea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as of the same generic typ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7:29; John 19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ost frequently found in vines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ushes, rather than larger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He who has ears, let him hear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v. 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means, Look for the lessons the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igures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n learn from the les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Seed-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ord of God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- As it relates to the King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the Gospel – Good New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tthew 13:17 – Prophets, righteous me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esired to hear what they he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Romans 1:16 – Power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2 Timothy 1:10 – Salvation has been reveale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hrough the Gosp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Wor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produces only the Kingdom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cts 2:36-41 – Church started throug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eaching the 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enesis 1:11 – Seed brings forth after is k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alatians 6:7, 8 – What you sow, you re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importa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e hear – Be sure it is truth – Mark 4:2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olossians 2:8 – Be careful…hollow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eceptive philosoph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 John 7-8 – Many deceivers…have gone ou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nto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importa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e hear – What we have can be taken from us – Luke 8:1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good soi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understood the word – Mark 4:20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f we hold it firm, Luke 8: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Christ assures us we will bring forth fru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Matthew &amp; Mark says the soils will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Yie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 fruit, some a hundred fold, some sixty, some thirty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5:02:35Z</dcterms:created>
  <dc:creator>Jerry Cantrell </dc:creator>
  <dc:description/>
  <dc:language>en-US</dc:language>
  <cp:lastModifiedBy>Jerry Cantrell </cp:lastModifiedBy>
  <dcterms:modified xsi:type="dcterms:W3CDTF">2006-02-19T06:55:54Z</dcterms:modified>
  <cp:revision>26</cp:revision>
  <dc:subject/>
  <dc:title>LESSON 12 THE PARABLE OF THE SOILS (THE SOWER)</dc:title>
</cp:coreProperties>
</file>